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28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ftr" idx="29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 type="sldNum" idx="30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4C9E-921B-464B-A5F4-1D2B36E4B1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948A-2574-426E-9102-D7EC871F29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7615-4E6F-405E-9D77-F9FD1B0464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7A12-178D-42E1-8C55-508E7E4E7A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7841-341D-4780-88B1-815632DF9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9F5C-0003-4221-85D2-41A35E2C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DB8D1-F103-4CA3-B505-F65DA801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9E7EB-C04C-468A-BB65-350B2B3D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BF05C-BAD9-4293-B3A6-4067D961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D63D4-8BB6-46F3-87FB-6752EA37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0C3EE-EB32-4659-A563-B59EF3C5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F82BE-EF92-44E0-BD87-AB258914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CC60D-50F9-46EE-9620-FB411010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CF989C-6040-49EF-AF25-68152C6CC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D62380-41C0-4D8B-9B5A-78CD7C44F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1C72-F9C1-4C99-9D06-AF05F1E3D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1BB6-B7C1-4BDE-BE05-06E7196B1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117E-FF4D-4CE7-90E9-EAD51F49E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69F3-A12B-45B8-8A92-8D938FB0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6FD0-C1FA-473D-B63D-CC71785F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C7A8-0394-47D4-8E0E-1EFB8E99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4E67-6D71-4F04-9957-D89DCBDC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D0FE-25EC-46D3-8884-3AB0E632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E2E9-84B7-423A-B23D-42565CF2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9E9A-8469-4D47-BE68-C6B2E50C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E871-0378-4506-B7BC-6BCAD581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73D0-4202-4A51-9975-93A9FFA6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3741-A167-4F14-9829-1D6619EA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72A1-42B7-4AE2-9CFF-4DDFAEAB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DABF-2696-4766-BC45-8E472B8B2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22F1C-2518-4E20-BB5E-E3F4647A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8D4A4-FF87-42F1-848B-F400B768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EC268-9905-4FE8-A5BA-D87A83F3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5DAD2-C772-4EF7-962D-E4AABF39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A002A-B6FA-45DB-9B88-B078EEC4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13A6-E213-434D-A927-82F182C9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AC8F1-63A6-4380-88E1-ED346950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27A6D-427A-457E-AD87-DFC4613F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CA171-05A4-4290-824D-EA6E2CAC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7C6E9-189E-4387-82BB-980F83D7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9CD28-255C-410B-B06B-3E5D71C6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8D88E-0DA1-4AE7-B531-ADB9AC30F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A7E8A-0222-4C4E-9B21-30E3792C7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47066-1323-46C8-9024-5D873365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4C0A0-2714-4893-ACC0-58393A61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E419E-32D0-4A83-A19B-6650B30E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94DB-65CB-4798-B42D-1F5469D4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72576-8925-4957-913A-7F248747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6C8E7-1DF7-4930-97FF-34032773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BD66B-3AA2-45C5-930B-4DA657BA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E5562-CEB6-4246-B472-6F566828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CE1E9-6CA1-486D-B53C-75949E10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53889-C9C0-48D2-9249-2F46D68D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09661-29C0-4021-BF27-AD4D97D3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C292E-8BBF-4BA2-A351-7161E5262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A058F-8C35-47D5-82D4-3BF29B11F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68632-0EB8-4DB3-BF19-7B24B6498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9DBB-24B7-4E0D-A97D-5D4118A6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4A915-CC16-4542-9343-0874EAB9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C7ADE-11F6-47DF-B9A5-2CBE5141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7EABB-A9F6-4B0B-B616-F1806E7F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34322-99FB-4444-B59D-719CE845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601DB-D121-42D1-B4BF-714CB598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3F1E4-C690-4024-BC37-1EBF5120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792AE-7156-4246-B174-02F146F9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FAC21-7D33-4900-84DF-59CD18F1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ACDA4-A401-4783-B17A-5A696BC3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BF3DF-F534-4648-97E6-CBA696E3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2D69-76C7-40AE-8F85-DDED1066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C763D-FB3F-409B-A52F-4A645EB36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DDEE5-A5C5-48F6-8230-291AEFDE6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3589C-1F2D-47B8-BE80-AC661787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E1948-16DF-461B-A473-F779155B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BA948-B64F-4146-A6F1-97542F1C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64F16-3735-4C5A-AD0C-462CB002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F22A6-2530-4F3A-870E-058FE880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A9626-E7E2-42A7-968B-31C0A3F7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2877E-7DFF-455B-A89C-FB46EC46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90DF1-21AF-48FA-862C-B4FDE6D3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6A24-6B6B-4DBF-9F8C-BF69202D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2A3DD-9EF9-40B7-BAC8-C8F1AFEE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61257-EB86-4B17-A1FB-0C7C0118D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DC5A5-B38C-43F6-BF62-31A570BB7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E5BD1-51DA-467F-9BFF-8DB22AEF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CA070-3CF4-4001-AB27-2DD675E6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6B923-2DC3-4862-829A-FC59BCAD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E2063-D084-44C5-ACF5-8DBC07F9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8A723-679D-436E-B88B-E8C60DA2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462AD-C3A4-490B-B2C4-68104936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B4413-F319-43C1-BC1A-6BE49F80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97FA-456F-414F-BAE5-B8BCC671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D4708-DC29-4DFA-9ADA-061F22EE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BD258-2332-45BC-B9D2-A6753226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D8998-0EB2-45F8-B141-5D19639A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B645B-A7DB-48A5-8C2A-4F783E202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A777A-A2FF-4DE2-A300-AF07AB077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8B1A2-ABD1-422E-970F-FD45DC12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7C686-746E-4C27-B856-50F8786D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E8362-45CE-408B-84E1-F084E01C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ABCF0-DA7D-4E56-84C8-9FF0F061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83473-8F6C-47DD-9F6A-B45F25AC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A44E-1217-4FCE-8F66-30E277F3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65AE9-2BDE-4F26-8374-4381ECB9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B8180-2309-42F9-9FB9-CC561C7D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45D8D-B656-433C-AE22-1F76CDE1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9F461-F382-4A5F-AE49-82B10456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AACCC-54A9-4D34-B907-77CACBB5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91B12-FC6B-4EA8-9CB9-D948BE20F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466BF-1318-4473-B0BA-57D60ED2B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A6534-6404-45CA-BDB6-6BF932934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0D205-821C-451F-8A41-B218EA6F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7B6FC-A3B4-4C1E-83DA-962F7B48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FF1B-306A-46E5-8281-41403439C1B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5EE5-CE9A-467A-9C16-7A4D3A48E2A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809F-1533-473D-BC3E-512A1A8C056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45D5-AE45-4720-8B87-5C41883FEF3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04F3-11DA-416E-8E2A-55B5B57414C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9C1A-590F-47FF-91E7-1A4690F8D06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200E-123D-4AE8-85D2-7E883ECDF56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DC06-E063-47BF-880E-C9CCEF4EC8A7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F64F-4CAB-432B-AF75-03BE8D87052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85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FBBE-2295-4802-AC45-F8EB67CDDFB9}" type="datetime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7B63-6C80-4C9A-B9FE-7AA5A452FFB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0920" y="1341360"/>
            <a:ext cx="798516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31f43"/>
                </a:solidFill>
                <a:latin typeface="Candara"/>
              </a:rPr>
              <a:t>Психолого-педагогическая помощь подросткам, склонным к авитальному поведению: риски и ресурсы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2000" spc="-1" strike="noStrike">
                <a:solidFill>
                  <a:srgbClr val="031f43"/>
                </a:solidFill>
                <a:latin typeface="Arial"/>
                <a:ea typeface="Arial"/>
              </a:rPr>
              <a:t>Кулькова Жанна Геннадьевна</a:t>
            </a:r>
            <a:r>
              <a:rPr b="0" i="1" lang="ru-RU" sz="2000" spc="-1" strike="noStrike">
                <a:solidFill>
                  <a:srgbClr val="031f43"/>
                </a:solidFill>
                <a:latin typeface="Arial"/>
                <a:ea typeface="Arial"/>
              </a:rPr>
              <a:t>, методист МБУ ДПО</a:t>
            </a:r>
            <a:br>
              <a:rPr sz="2000"/>
            </a:br>
            <a:r>
              <a:rPr b="0" i="1" lang="ru-RU" sz="2000" spc="-1" strike="noStrike">
                <a:solidFill>
                  <a:srgbClr val="031f43"/>
                </a:solidFill>
                <a:latin typeface="Arial"/>
                <a:ea typeface="Arial"/>
              </a:rPr>
              <a:t> «Центр развития образования города Челябинска»</a:t>
            </a:r>
            <a:br>
              <a:rPr sz="2000"/>
            </a:br>
            <a:br>
              <a:rPr sz="2000"/>
            </a:br>
            <a:r>
              <a:rPr b="0" lang="ru-RU" sz="2200" spc="-1" strike="noStrike">
                <a:solidFill>
                  <a:srgbClr val="031f43"/>
                </a:solidFill>
                <a:latin typeface="Candara"/>
              </a:rPr>
              <a:t>7</a:t>
            </a:r>
            <a:r>
              <a:rPr b="0" lang="en-US" sz="2200" spc="-1" strike="noStrike">
                <a:solidFill>
                  <a:srgbClr val="031f43"/>
                </a:solidFill>
                <a:latin typeface="Candara"/>
              </a:rPr>
              <a:t> </a:t>
            </a:r>
            <a:r>
              <a:rPr b="0" lang="ru-RU" sz="2200" spc="-1" strike="noStrike">
                <a:solidFill>
                  <a:srgbClr val="031f43"/>
                </a:solidFill>
                <a:latin typeface="Candara"/>
              </a:rPr>
              <a:t>ноября 2019г.</a:t>
            </a: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  <a:ea typeface="Times New Roman"/>
              </a:rPr>
              <a:t>Формы профилактики подростковой суицидности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</a:rPr>
              <a:t>проведение при необходимости тактичной консультации подростк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 algn="just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</a:rPr>
              <a:t>формирование в ходе реабилитационного курса таких </a:t>
            </a:r>
            <a:r>
              <a:rPr b="1" lang="ru-RU" sz="2000" spc="-1" strike="noStrike">
                <a:solidFill>
                  <a:srgbClr val="073e87"/>
                </a:solidFill>
                <a:latin typeface="Candara"/>
                <a:ea typeface="Times New Roman"/>
              </a:rPr>
              <a:t> по</a:t>
            </a:r>
            <a:r>
              <a:rPr b="1" lang="ru-RU" sz="2000" spc="-1" strike="noStrike">
                <a:solidFill>
                  <a:srgbClr val="073e87"/>
                </a:solidFill>
                <a:latin typeface="Times New Roman"/>
              </a:rPr>
              <a:t>нятий, как «ценность человеческой жизни», «цели и смысл жизни»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 algn="just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</a:rPr>
              <a:t>повышение </a:t>
            </a:r>
            <a:r>
              <a:rPr b="1" lang="ru-RU" sz="2000" spc="-1" strike="noStrike">
                <a:solidFill>
                  <a:srgbClr val="073e87"/>
                </a:solidFill>
                <a:latin typeface="Candara"/>
                <a:ea typeface="Times New Roman"/>
              </a:rPr>
              <a:t>стр</a:t>
            </a:r>
            <a:r>
              <a:rPr b="1" lang="ru-RU" sz="2000" spc="-1" strike="noStrike">
                <a:solidFill>
                  <a:srgbClr val="073e87"/>
                </a:solidFill>
                <a:latin typeface="Times New Roman"/>
              </a:rPr>
              <a:t>ессоустойчивости путем психологической подготовки подростка к сложным и противоречивым реалиям современной жизни, формирование готовности к преодолению ожидаемых трудностей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  <a:ea typeface="Times New Roman"/>
              </a:rPr>
              <a:t>н</a:t>
            </a:r>
            <a:r>
              <a:rPr b="1" lang="ru-RU" sz="2000" spc="-1" strike="noStrike">
                <a:solidFill>
                  <a:srgbClr val="073e87"/>
                </a:solidFill>
                <a:latin typeface="Times New Roman"/>
              </a:rPr>
              <a:t>аучение подростка индивидуальным приемам </a:t>
            </a:r>
            <a:r>
              <a:rPr b="1" lang="ru-RU" sz="2000" spc="-1" strike="noStrike">
                <a:solidFill>
                  <a:srgbClr val="073e87"/>
                </a:solidFill>
                <a:latin typeface="Candara"/>
                <a:ea typeface="Times New Roman"/>
              </a:rPr>
              <a:t>п</a:t>
            </a:r>
            <a:r>
              <a:rPr b="1" lang="ru-RU" sz="2000" spc="-1" strike="noStrike">
                <a:solidFill>
                  <a:srgbClr val="073e87"/>
                </a:solidFill>
                <a:latin typeface="Times New Roman"/>
              </a:rPr>
              <a:t>сихологической защиты в сложных жизненных ситуациях</a:t>
            </a:r>
            <a:r>
              <a:rPr b="1" lang="ru-RU" sz="2000" spc="-1" strike="noStrike">
                <a:solidFill>
                  <a:srgbClr val="073e87"/>
                </a:solidFill>
                <a:latin typeface="Candara"/>
                <a:ea typeface="Times New Roman"/>
              </a:rPr>
              <a:t>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Телефон Доверия 8-800-2000-122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Телефоны экстренных служб в г.Челябинске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Круглосуточная бесплатная мобильная социально-психологическая служба 735-51-53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сихиатрическая бригада Скорой помощ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Административные регламенты в ОО (связь с родителями (законными представителями) через администрацию ОО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рганизационно-диспетчерская функция школьного психолог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23640" y="1484280"/>
            <a:ext cx="8280360" cy="32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900" spc="-1" strike="noStrike">
                <a:solidFill>
                  <a:srgbClr val="ffffff"/>
                </a:solidFill>
                <a:latin typeface="Candara"/>
              </a:rPr>
              <a:t>Успехов </a:t>
            </a:r>
            <a:br>
              <a:rPr sz="5900"/>
            </a:br>
            <a:r>
              <a:rPr b="1" i="1" lang="ru-RU" sz="5900" spc="-1" strike="noStrike">
                <a:solidFill>
                  <a:srgbClr val="ffffff"/>
                </a:solidFill>
                <a:latin typeface="Candara"/>
              </a:rPr>
              <a:t>в выборе приоритетов  и </a:t>
            </a:r>
            <a:br>
              <a:rPr sz="5900"/>
            </a:br>
            <a:r>
              <a:rPr b="1" i="1" lang="ru-RU" sz="5900" spc="-1" strike="noStrike">
                <a:solidFill>
                  <a:srgbClr val="ffffff"/>
                </a:solidFill>
                <a:latin typeface="Candara"/>
              </a:rPr>
              <a:t>в достижении целей!</a:t>
            </a:r>
            <a:endParaRPr b="0" lang="en-US" sz="59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6346800" cy="87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ndara"/>
              </a:rPr>
              <a:t>Актуальность вопрос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84000" y="1483920"/>
            <a:ext cx="721044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величение числа детей и подростков с нарушенными формами поведен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ночтения в трактовках специалистов патологических и непатологических форм поведен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овые исследования в области психопатологии нарушенного поведен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ркологические аспекты нарушенного поведен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авовые (законодательные) вопросы нарушенного поведен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совершенство профилактических и реабилитационных мероприят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41" name="Рисунок 7" descr="i1_fe_2b.jpg"/>
          <p:cNvPicPr/>
          <p:nvPr/>
        </p:nvPicPr>
        <p:blipFill>
          <a:blip r:embed="rId1"/>
          <a:stretch/>
        </p:blipFill>
        <p:spPr>
          <a:xfrm>
            <a:off x="7931160" y="2548080"/>
            <a:ext cx="1243080" cy="865080"/>
          </a:xfrm>
          <a:prstGeom prst="rect">
            <a:avLst/>
          </a:prstGeom>
          <a:ln w="0">
            <a:noFill/>
          </a:ln>
        </p:spPr>
      </p:pic>
      <p:pic>
        <p:nvPicPr>
          <p:cNvPr id="442" name="Рисунок 8" descr="2.jpg"/>
          <p:cNvPicPr/>
          <p:nvPr/>
        </p:nvPicPr>
        <p:blipFill>
          <a:blip r:embed="rId2"/>
          <a:stretch/>
        </p:blipFill>
        <p:spPr>
          <a:xfrm>
            <a:off x="7997760" y="3627360"/>
            <a:ext cx="1243080" cy="865440"/>
          </a:xfrm>
          <a:prstGeom prst="rect">
            <a:avLst/>
          </a:prstGeom>
          <a:ln w="0">
            <a:noFill/>
          </a:ln>
        </p:spPr>
      </p:pic>
      <p:pic>
        <p:nvPicPr>
          <p:cNvPr id="443" name="Рисунок 9" descr="p46telloffkids_468x460.jpg"/>
          <p:cNvPicPr/>
          <p:nvPr/>
        </p:nvPicPr>
        <p:blipFill>
          <a:blip r:embed="rId3"/>
          <a:stretch/>
        </p:blipFill>
        <p:spPr>
          <a:xfrm>
            <a:off x="8004240" y="4705200"/>
            <a:ext cx="1243080" cy="866880"/>
          </a:xfrm>
          <a:prstGeom prst="rect">
            <a:avLst/>
          </a:prstGeom>
          <a:ln w="0">
            <a:noFill/>
          </a:ln>
        </p:spPr>
      </p:pic>
      <p:pic>
        <p:nvPicPr>
          <p:cNvPr id="444" name="Рисунок 10" descr="img14.jpg"/>
          <p:cNvPicPr/>
          <p:nvPr/>
        </p:nvPicPr>
        <p:blipFill>
          <a:blip r:embed="rId4"/>
          <a:stretch/>
        </p:blipFill>
        <p:spPr>
          <a:xfrm>
            <a:off x="7894800" y="1627200"/>
            <a:ext cx="124920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роблемы подростковых суицидальных намерений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. Неадекватная оценка аутоагресси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. Несерьезность (с точки зрения взрослых) мотивов, которыми подростки объясняют попытки самоубийства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. Наличие взаимосвязи попыток самоубийств подростков с отклоняющимся поведением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. Возникновению суицидального поведения способствуют депрессивные состояния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Компоненты (слагаемые) правосознан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4643280" y="2244240"/>
            <a:ext cx="4392720" cy="2043720"/>
          </a:xfrm>
          <a:prstGeom prst="rect">
            <a:avLst/>
          </a:prstGeom>
          <a:solidFill>
            <a:srgbClr val="92d050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моционально-чувственны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я чувствую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 отношусь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108000" y="2060640"/>
            <a:ext cx="3779640" cy="2057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гнитив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я знаю, я понимаю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7"/>
          <p:cNvSpPr/>
          <p:nvPr/>
        </p:nvSpPr>
        <p:spPr>
          <a:xfrm>
            <a:off x="1908000" y="4581360"/>
            <a:ext cx="5867640" cy="1700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веденчески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я делаю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539640" y="234900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Candara"/>
              </a:rPr>
              <a:t>Познавательная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Candara"/>
              </a:rPr>
              <a:t>Регулятивная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Candara"/>
              </a:rPr>
              <a:t>Прогностическая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Candara"/>
              </a:rPr>
              <a:t>Оценочная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Candara"/>
              </a:rPr>
              <a:t>Коммуникативная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Функции правосозн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ndara"/>
              </a:rPr>
              <a:t>Формируемые в образовательной системе структурные компоненты правосознания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324000" y="1916280"/>
            <a:ext cx="5760720" cy="936360"/>
          </a:xfrm>
          <a:prstGeom prst="rect">
            <a:avLst/>
          </a:prstGeom>
          <a:solidFill>
            <a:srgbClr val="c8fe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тношение к праву (законам и норма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900000" y="3141720"/>
            <a:ext cx="6264360" cy="876240"/>
          </a:xfrm>
          <a:prstGeom prst="rect">
            <a:avLst/>
          </a:prstGeom>
          <a:solidFill>
            <a:srgbClr val="bdecc9"/>
          </a:solidFill>
          <a:ln w="9360">
            <a:solidFill>
              <a:srgbClr val="dce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тношение к правовому поведению люд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9"/>
          <p:cNvSpPr/>
          <p:nvPr/>
        </p:nvSpPr>
        <p:spPr>
          <a:xfrm>
            <a:off x="1547640" y="4292640"/>
            <a:ext cx="6312240" cy="876240"/>
          </a:xfrm>
          <a:prstGeom prst="rect">
            <a:avLst/>
          </a:prstGeom>
          <a:solidFill>
            <a:srgbClr val="b5ce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тношение к правоохранительным органа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2411280" y="5533920"/>
            <a:ext cx="6661440" cy="703440"/>
          </a:xfrm>
          <a:prstGeom prst="rect">
            <a:avLst/>
          </a:prstGeom>
          <a:solidFill>
            <a:srgbClr val="fbe6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тношение к собственному правовому поведен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900000" y="299736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Candara"/>
              </a:rPr>
              <a:t>Правовой нигилизм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11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Candara"/>
              </a:rPr>
              <a:t>Правовой идеализм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11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Candara"/>
              </a:rPr>
              <a:t>Правовая демагогия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ndara"/>
              </a:rPr>
              <a:t>Деформации правосознания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ndara"/>
              </a:rPr>
              <a:t>Условия эффективного формирования законопослушного правосознания: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250920" y="2008080"/>
            <a:ext cx="4968720" cy="989280"/>
          </a:xfrm>
          <a:prstGeom prst="rect">
            <a:avLst/>
          </a:prstGeom>
          <a:solidFill>
            <a:srgbClr val="fbe6b3"/>
          </a:solidFill>
          <a:ln w="936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декватность и полно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формационного по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1692360" y="3213000"/>
            <a:ext cx="5832360" cy="1079640"/>
          </a:xfrm>
          <a:prstGeom prst="rect">
            <a:avLst/>
          </a:prstGeom>
          <a:solidFill>
            <a:srgbClr val="9de3ae"/>
          </a:solidFill>
          <a:ln w="936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арантия соблюдения пра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семи и для все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4067280" y="4419720"/>
            <a:ext cx="4572000" cy="1096920"/>
          </a:xfrm>
          <a:prstGeom prst="rect">
            <a:avLst/>
          </a:prstGeom>
          <a:solidFill>
            <a:srgbClr val="c8fefd"/>
          </a:solidFill>
          <a:ln w="936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тивационная поддерж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зитивных проявл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  <a:ea typeface="Times New Roman"/>
              </a:rPr>
              <a:t>Формы профилактики подростковой суицидности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  <a:ea typeface="Times New Roman"/>
              </a:rPr>
              <a:t>неукоснительное соблюдение педагогической этики, требований педагогической культуры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  <a:ea typeface="Times New Roman"/>
              </a:rPr>
              <a:t>индивидуальный подход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  <a:ea typeface="Times New Roman"/>
              </a:rPr>
              <a:t>раннее выявление контингента риска (знание его характеристик с целью динамического наблюдения ии (состояние ничем не обоснованной грусти)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</a:rPr>
              <a:t>консультативная </a:t>
            </a: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</a:t>
            </a:r>
            <a:r>
              <a:rPr b="1" lang="ru-RU" sz="2000" spc="-1" strike="noStrike">
                <a:solidFill>
                  <a:srgbClr val="073e87"/>
                </a:solidFill>
                <a:latin typeface="Times New Roman"/>
              </a:rPr>
              <a:t>омощь семьям, в которых </a:t>
            </a: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</a:t>
            </a:r>
            <a:r>
              <a:rPr b="1" lang="ru-RU" sz="2000" spc="-1" strike="noStrike">
                <a:solidFill>
                  <a:srgbClr val="073e87"/>
                </a:solidFill>
                <a:latin typeface="Times New Roman"/>
              </a:rPr>
              <a:t>р</a:t>
            </a: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</a:t>
            </a:r>
            <a:r>
              <a:rPr b="1" lang="ru-RU" sz="2000" spc="-1" strike="noStrike">
                <a:solidFill>
                  <a:srgbClr val="073e87"/>
                </a:solidFill>
                <a:latin typeface="Times New Roman"/>
              </a:rPr>
              <a:t>живают подростки из «группы риска»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18:14:01Z</dcterms:created>
  <dc:creator>Целинский</dc:creator>
  <dc:description/>
  <dc:language>en-US</dc:language>
  <cp:lastModifiedBy>User</cp:lastModifiedBy>
  <cp:lastPrinted>2019-11-07T06:36:33Z</cp:lastPrinted>
  <dcterms:modified xsi:type="dcterms:W3CDTF">2019-11-08T05:19:40Z</dcterms:modified>
  <cp:revision>64</cp:revision>
  <dc:subject/>
  <dc:title>ЗАКОНОДАТЕЛЬСТВО  О ПРОФИЛАКТИКЕ НАРКОМАНИИ</dc:title>
</cp:coreProperties>
</file>